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A4D-63C7-4C8A-A67E-FD5E8DA2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519-6777-4E9C-A5DB-7AA9EDD9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919-509E-41C3-8F05-9074495A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DF9-3F24-4C89-A306-142D9FC9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64B0-0F96-49D6-B571-17376814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DFCB-31E6-4CF9-B259-6DFFF5EB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32E0-B83E-4F5A-B2DD-036EA779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DE60-2133-4A22-93D6-112ED6DE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5C86-4589-4AA0-9427-1077B642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CE62-D6D5-4E81-B223-F6C454C3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4B96-1002-4145-AF96-57E3938A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2A1-8557-4700-911F-7B17AFB1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645C-8533-41DA-AC66-3038A39B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9BDE-D3F0-4BDA-BA7A-E5BD063E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DA11-F603-4A04-9139-8F0A3D45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5334-C602-476E-AA63-FD01C9A3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B919-F70F-4FA2-97AA-C72C0BC4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928-197D-48FB-8F85-3EF72C96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A4E-3A62-4F6D-82F7-9BD88214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2FC-4934-4B2E-99CF-179FB2B5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550-FB59-4EDB-98E7-40AD8E5D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19A-F8CF-4309-B9ED-47C1D051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852B-012A-4413-8C0C-7C5B77BB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9E7-BFC8-4B40-886D-F37E185D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3F03-E8F7-49A2-A44E-9ABEA05F57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D0DD-D788-4C0D-ACE7-E43718CA49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66"/>
                </a:solidFill>
                <a:latin typeface="Arial Black"/>
              </a:rPr>
              <a:t>ОЦЕНКА ЗАВИСИМОСТИ СПРОСА НА ПЕРЕВОЗКИ ОТ УРОВНЯ КАЧЕСТВА ТРАНСПОРТНОГО ОБСЛУЖИВАНИЯ ГРУЗОВЛАДЕЛЬЦЕВ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4680" y="3430440"/>
            <a:ext cx="622296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ов Юрий Игоревич, д.э.н., профессор кафедры «Экономика и управление на транспорте» Московского государственного университета путей сообщения (МИ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месячная динамика Индекса качест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6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71516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удовлетворенности клиентов уровнем ставок за перевозку груз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5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7786800" cy="407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Общие сведения о методике расчет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1760" y="1905120"/>
            <a:ext cx="4452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дальнейшего анализа из всех показателей, входящих в Индекс, нами были выделены пять важнейших, оказывающих, на наш взгляд, решающее значение на выбор клиентом транспортной комп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блюдение сроков достав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хранность гру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ревозка «от двери до двер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нота удовлетворения сп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ача вагонов по граф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ный показ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а рассчитан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2143080" y="5572080"/>
                <a:ext cx="10288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2" name="TextBox 9" descr=""/>
          <p:cNvPicPr/>
          <p:nvPr/>
        </p:nvPicPr>
        <p:blipFill>
          <a:blip r:embed="rId1"/>
          <a:stretch/>
        </p:blipFill>
        <p:spPr>
          <a:xfrm>
            <a:off x="5443560" y="2182680"/>
            <a:ext cx="3279600" cy="40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нные для расчета эластичности спрос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909720" y="1905120"/>
          <a:ext cx="7400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05120"/>
                    <a:ext cx="7400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6" descr="miit"/>
          <p:cNvPicPr/>
          <p:nvPr/>
        </p:nvPicPr>
        <p:blipFill>
          <a:blip r:embed="rId3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уровня качества транспортного обслуживания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Рисунок 21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032360" cy="40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62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степени удовлетворенности клиентов уровнем тарифов 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P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3" name="Рисунок 21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02876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Q=0,53Р+97,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фера применения результатов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ные компании (прогнозирование реакции рынка, оценка эффективности проводимых мероприятий, выбор стратегии роста клиентоориентирова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государственного регулирования (индикатор развития конкуренции на рынке грузовых перевоз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7:03:46Z</dcterms:created>
  <dc:creator>Юрий Соколов</dc:creator>
  <dc:description/>
  <dc:language>en-US</dc:language>
  <cp:lastModifiedBy>Evgeny</cp:lastModifiedBy>
  <dcterms:modified xsi:type="dcterms:W3CDTF">2014-11-12T06:40:07Z</dcterms:modified>
  <cp:revision>6</cp:revision>
  <dc:subject/>
  <dc:title>Оценка зависимости спроса на перевозки от уровня качества транспортного обслуживания грузовладельцев</dc:title>
</cp:coreProperties>
</file>